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4841F-A704-440E-B303-D61F0074D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448B8-85AE-45A9-8505-9F3EA6D13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6965A-1C55-44A9-A3EC-0FE25C309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C0DF7-9E0E-4AE6-91F0-22B71F323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6E58D-2404-45EB-9A9E-53A34A1CF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E1A93-13A7-4643-8187-B4E5EA887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F7237-D948-49D8-86B3-31C0A0616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86B7C-45A5-4A92-AAAF-8B4DBF55A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3B593-0EC3-4C73-A119-CA854E155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DDD12-6C51-41DC-8FA4-F392DBD39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523DA-F5DC-48BC-A1C8-5E3BAEF86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CBEE7-9556-4AA4-B042-133C66CE8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5D0A0-3DA0-4A63-939E-2FC709F256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3/3e/%22Falasha%22_Village_Synagogue.jpg" TargetMode="External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3/3e/%22Falasha%22_Village_Synagogue.jpg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iur  13  words  31 -37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terday  /   regards  /  late  /  since then  /  200  /  again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6000" spc="-1" strike="noStrike">
                <a:solidFill>
                  <a:srgbClr val="009999"/>
                </a:solidFill>
                <a:latin typeface="Arial"/>
              </a:rPr>
              <a:t>מאז 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אנחנו  יודעים  על החיים  של  היהודים באתיופיה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295280" y="2071800"/>
            <a:ext cx="6400800" cy="42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לפני </a:t>
            </a:r>
            <a:r>
              <a:rPr b="1" lang="he-IL" sz="8000" spc="-1" strike="noStrike">
                <a:solidFill>
                  <a:srgbClr val="009999"/>
                </a:solidFill>
                <a:latin typeface="Arial"/>
              </a:rPr>
              <a:t>מאתיים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שנה  באו תיירים לאתיופיה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File:&quot;Falasha&quot; Village Synagogue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419720" y="2057400"/>
            <a:ext cx="4479840" cy="48006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609480" y="2362320"/>
            <a:ext cx="449604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7200" spc="-1" strike="noStrike">
                <a:solidFill>
                  <a:srgbClr val="333399"/>
                </a:solidFill>
                <a:latin typeface="Arial"/>
              </a:rPr>
              <a:t>מאתיים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2743200" y="1752480"/>
            <a:ext cx="4800600" cy="42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6600" spc="-1" strike="noStrike">
                <a:solidFill>
                  <a:srgbClr val="009999"/>
                </a:solidFill>
                <a:latin typeface="Arial"/>
              </a:rPr>
              <a:t>מאתיים   </a:t>
            </a:r>
            <a:r>
              <a:rPr b="1" lang="he-IL" sz="6600" spc="-1" strike="noStrike">
                <a:solidFill>
                  <a:srgbClr val="009999"/>
                </a:solidFill>
                <a:latin typeface="Arial"/>
              </a:rPr>
              <a:t>200</a:t>
            </a:r>
            <a:r>
              <a:rPr b="1" lang="he-IL" sz="66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מאה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מאתיים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שלוש מאות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3581280" y="1752480"/>
            <a:ext cx="4572000" cy="45720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 flipH="1" flipV="1">
            <a:off x="228240" y="4188960"/>
            <a:ext cx="397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מא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259880" y="32464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מא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259880" y="32464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מא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9999"/>
                </a:solidFill>
                <a:latin typeface="Arial"/>
              </a:rPr>
              <a:t>שוב  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פעם  בן 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17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286000" y="1828800"/>
            <a:ext cx="5457960" cy="43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ו</a:t>
            </a:r>
            <a:r>
              <a:rPr b="1" lang="he-IL" sz="6000" spc="-1" strike="noStrike">
                <a:solidFill>
                  <a:srgbClr val="009999"/>
                </a:solidFill>
                <a:latin typeface="Arial"/>
              </a:rPr>
              <a:t>שוב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 איתכם  ( שיר )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gain with  you 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438280" y="1905120"/>
            <a:ext cx="4800600" cy="475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__ __ __ __ __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7200" spc="-1" strike="noStrike">
                <a:solidFill>
                  <a:srgbClr val="009999"/>
                </a:solidFill>
                <a:latin typeface="Arial"/>
              </a:rPr>
              <a:t>אתמול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3276720" y="1752480"/>
            <a:ext cx="4362480" cy="43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ה_______  של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__ __ __ __ __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6600" spc="-1" strike="noStrike">
                <a:solidFill>
                  <a:srgbClr val="009999"/>
                </a:solidFill>
                <a:latin typeface="Arial"/>
              </a:rPr>
              <a:t>העולם  של   אתמול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809880" y="2590920"/>
            <a:ext cx="45943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__  "___  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או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4000"/>
            </a:b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__ __ __ __ __    __ __ __ __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6000" spc="-1" strike="noStrike">
                <a:solidFill>
                  <a:srgbClr val="000000"/>
                </a:solidFill>
                <a:latin typeface="Arial"/>
              </a:rPr>
              <a:t>ד"ש</a:t>
            </a:r>
            <a:r>
              <a:rPr b="0" lang="he-IL" sz="6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7200" spc="-1" strike="noStrike">
                <a:solidFill>
                  <a:srgbClr val="009999"/>
                </a:solidFill>
                <a:latin typeface="Arial"/>
              </a:rPr>
              <a:t>דרישת  שלום</a:t>
            </a:r>
            <a:r>
              <a:rPr b="0" lang="he-IL" sz="7200" spc="-1" strike="noStrike">
                <a:solidFill>
                  <a:srgbClr val="009999"/>
                </a:solidFill>
                <a:latin typeface="Arial"/>
              </a:rPr>
              <a:t> 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314880" y="3886200"/>
            <a:ext cx="582912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יותר טוב  __ __ __ __ __ </a:t>
            </a:r>
            <a:br>
              <a:rPr sz="4000"/>
            </a:b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מאשר אף פעם  לא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6600" spc="-1" strike="noStrike">
                <a:solidFill>
                  <a:srgbClr val="009999"/>
                </a:solidFill>
                <a:latin typeface="Arial"/>
              </a:rPr>
              <a:t>מאוחר</a:t>
            </a:r>
            <a:r>
              <a:rPr b="1" lang="he-IL" sz="66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523880" y="2886120"/>
            <a:ext cx="6477120" cy="33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tmol  - 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אתמול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276720" y="1752480"/>
            <a:ext cx="4362480" cy="43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__ __ __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8800" spc="-1" strike="noStrike">
                <a:solidFill>
                  <a:srgbClr val="333399"/>
                </a:solidFill>
                <a:latin typeface="Arial"/>
              </a:rPr>
              <a:t>מאז</a:t>
            </a:r>
            <a:r>
              <a:rPr b="1" lang="he-IL" sz="8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he-IL" sz="8800" spc="-1" strike="noStrike">
                <a:solidFill>
                  <a:srgbClr val="333399"/>
                </a:solidFill>
                <a:latin typeface="Arial"/>
              </a:rPr>
              <a:t>...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4419720" y="1528920"/>
            <a:ext cx="4343400" cy="43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ה_______  הראשונים  באו  לאתיופיה </a:t>
            </a:r>
            <a:br>
              <a:rPr sz="4000"/>
            </a:b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לפני  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200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_____ שנה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6000" spc="-1" strike="noStrike">
                <a:solidFill>
                  <a:srgbClr val="009999"/>
                </a:solidFill>
                <a:latin typeface="Arial"/>
              </a:rPr>
              <a:t>תיירים</a:t>
            </a:r>
            <a:r>
              <a:rPr b="0" lang="he-IL" sz="6000" spc="-1" strike="noStrike">
                <a:solidFill>
                  <a:srgbClr val="009999"/>
                </a:solidFill>
                <a:latin typeface="Arial"/>
              </a:rPr>
              <a:t>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7200" spc="-1" strike="noStrike">
                <a:solidFill>
                  <a:srgbClr val="333399"/>
                </a:solidFill>
                <a:latin typeface="Arial"/>
              </a:rPr>
              <a:t>מאתיים</a:t>
            </a:r>
            <a:r>
              <a:rPr b="1" lang="he-IL" sz="7200" spc="-1" strike="noStrike">
                <a:solidFill>
                  <a:srgbClr val="333399"/>
                </a:solidFill>
                <a:latin typeface="Arial"/>
              </a:rPr>
              <a:t> 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4343400" y="1828800"/>
            <a:ext cx="44956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__ __ __  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אנחנו  יודעים על </a:t>
            </a:r>
            <a:br>
              <a:rPr sz="4000"/>
            </a:b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יהודי  אתיופיה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3276720" y="2820960"/>
            <a:ext cx="5410080" cy="36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_ _ _   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אנחנו יודעים על החיים</a:t>
            </a:r>
            <a:br>
              <a:rPr sz="4000"/>
            </a:b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של יהודי  אתיופיה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 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6000" spc="-1" strike="noStrike">
                <a:solidFill>
                  <a:srgbClr val="009999"/>
                </a:solidFill>
                <a:latin typeface="Arial"/>
              </a:rPr>
              <a:t>מאז</a:t>
            </a:r>
            <a:r>
              <a:rPr b="1" lang="he-IL" sz="60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File:&quot;Falasha&quot; Village Synagogue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05320" y="1905120"/>
            <a:ext cx="33940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__ __ __   (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פעם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)   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בן  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17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8800" spc="-1" strike="noStrike">
                <a:solidFill>
                  <a:srgbClr val="009999"/>
                </a:solidFill>
                <a:latin typeface="Arial"/>
              </a:rPr>
              <a:t>שוב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819520" y="1981080"/>
            <a:ext cx="5457600" cy="43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__ __ __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8000" spc="-1" strike="noStrike">
                <a:solidFill>
                  <a:srgbClr val="009999"/>
                </a:solidFill>
                <a:latin typeface="Arial"/>
              </a:rPr>
              <a:t>שוב</a:t>
            </a:r>
            <a:r>
              <a:rPr b="0" lang="he-IL" sz="80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3505320" y="1219320"/>
            <a:ext cx="541008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ראשון /  שני / שלישי / רביעי / חמישי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4267080" y="2209680"/>
            <a:ext cx="333396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_____  ____ ____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5400" spc="-1" strike="noStrike">
                <a:solidFill>
                  <a:srgbClr val="ff0000"/>
                </a:solidFill>
                <a:latin typeface="Arial"/>
              </a:rPr>
              <a:t>ראשון</a:t>
            </a:r>
            <a:r>
              <a:rPr b="0" lang="he-IL" sz="54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800" spc="-1" strike="noStrike">
                <a:solidFill>
                  <a:srgbClr val="99cc00"/>
                </a:solidFill>
                <a:latin typeface="Arial"/>
              </a:rPr>
              <a:t>שני</a:t>
            </a:r>
            <a:r>
              <a:rPr b="1" lang="he-IL" sz="4800" spc="-1" strike="noStrike">
                <a:solidFill>
                  <a:srgbClr val="99cc00"/>
                </a:solidFill>
                <a:latin typeface="Arial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800" spc="-1" strike="noStrike">
                <a:solidFill>
                  <a:srgbClr val="cc3300"/>
                </a:solidFill>
                <a:latin typeface="Arial"/>
              </a:rPr>
              <a:t>שלישי</a:t>
            </a:r>
            <a:r>
              <a:rPr b="1" lang="he-IL" sz="4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he-IL" sz="4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352680" y="2589120"/>
            <a:ext cx="4896000" cy="34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aolam shel etmol</a:t>
            </a:r>
            <a:br>
              <a:rPr sz="4000"/>
            </a:b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העולם של </a:t>
            </a:r>
            <a:r>
              <a:rPr b="0" lang="he-IL" sz="6000" spc="-1" strike="noStrike">
                <a:solidFill>
                  <a:srgbClr val="009999"/>
                </a:solidFill>
                <a:latin typeface="Arial"/>
              </a:rPr>
              <a:t>אתמול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581280" y="1523880"/>
            <a:ext cx="3683160" cy="45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famous book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5334120" y="1295280"/>
            <a:ext cx="3375000" cy="52578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1066680" y="1295280"/>
            <a:ext cx="341784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ash  or  drishat  shalom</a:t>
            </a:r>
            <a:br>
              <a:rPr sz="4000"/>
            </a:br>
            <a:r>
              <a:rPr b="1" lang="he-IL" sz="6600" spc="-1" strike="noStrike">
                <a:solidFill>
                  <a:srgbClr val="009999"/>
                </a:solidFill>
                <a:latin typeface="Arial"/>
              </a:rPr>
              <a:t>דרישת  שלום   /   ד"ש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371600" y="1676520"/>
            <a:ext cx="6477120" cy="43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429000" y="533520"/>
            <a:ext cx="3930480" cy="52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radio program in Israel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895480" y="1687680"/>
            <a:ext cx="4800600" cy="47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יותר טוב  </a:t>
            </a:r>
            <a:r>
              <a:rPr b="0" lang="he-IL" sz="7200" spc="-1" strike="noStrike">
                <a:solidFill>
                  <a:srgbClr val="009999"/>
                </a:solidFill>
                <a:latin typeface="Arial"/>
              </a:rPr>
              <a:t>מאוחר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 מאף פעם  לא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457200" y="1905120"/>
            <a:ext cx="8458200" cy="43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he-IL" sz="6600" spc="-1" strike="noStrike">
                <a:solidFill>
                  <a:srgbClr val="333399"/>
                </a:solidFill>
                <a:latin typeface="Arial"/>
              </a:rPr>
              <a:t>מאז</a:t>
            </a:r>
            <a:r>
              <a:rPr b="1" lang="he-IL" sz="6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he-IL" sz="6600" spc="-1" strike="noStrike">
                <a:solidFill>
                  <a:srgbClr val="333399"/>
                </a:solidFill>
                <a:latin typeface="Arial"/>
              </a:rPr>
              <a:t>...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EAZ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209680" y="1828800"/>
            <a:ext cx="3810240" cy="37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5T07:58:13Z</dcterms:created>
  <dc:creator>Preferred Customer</dc:creator>
  <dc:description/>
  <dc:language>en-US</dc:language>
  <cp:lastModifiedBy>aschlezinger</cp:lastModifiedBy>
  <dcterms:modified xsi:type="dcterms:W3CDTF">2011-03-01T22:50:39Z</dcterms:modified>
  <cp:revision>2</cp:revision>
  <dc:subject/>
  <dc:title>Shiur  13  words  31 -37 </dc:title>
</cp:coreProperties>
</file>